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1EA2-A001-458E-93B9-4B1C0015D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1D18-71E2-4BDD-9049-1738E550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48003-CF6C-4777-9422-543E9746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463B2-617C-4450-87B5-B9547B17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9B95E-DDB9-4FCC-A564-1BD40E23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EF52D6-8DB8-4292-BCE2-B4876690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794DF-A646-4BE8-ADC7-55177C9C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4C768D-68C4-43C8-A1BC-349BFFC4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44AC4-5F74-4D4E-BC8A-A2878BE4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95810-DE0B-458B-ADF5-7858EB570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66731-9670-4D05-BC2C-2E8F1A4C7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5BD43-A75D-4D55-A15C-59AAC4056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4EB4-EA06-47F8-8F8B-67EAB8626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B14988-BAF9-48A6-82D4-2FBBD43E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47756-17D4-4636-AF38-5F26DF32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6BCEF6-512D-4A1E-B1C7-6E623CA2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FB63B-ACC9-4D96-9C5D-950CD160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292160-5A60-4A9F-9F2B-02BFA786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6D553C-F212-4BED-BDCA-743CB34E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5E8B79-1620-4F5D-85B4-B9329900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B17810-6384-4DD9-B623-17A8C77C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99838-B467-4F89-8A8E-AFDECE8D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566427-A944-40D4-BEA4-67CE9D7E5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DA35-45D0-4C83-8F3A-1204D9D31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ADF931-7E61-45AE-A6EF-8A03AEF91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951EA-BC05-4DE8-8369-D8251433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B41A9-9E11-4080-BEAA-9EFFCD80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110AA-0A6F-49CB-B41A-8F6C355E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C4E33-58E5-438F-A16C-0EA59A1F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5ED8B-DD10-46A7-B24A-63492ABE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DF042-BCEA-48FF-B0A5-999A0FD4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A074D-8305-48C4-BE3C-126C64A0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BD464-B261-4750-A0A5-4631D09C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24206-A530-4E35-811C-CABD8EBE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6F89-DA7E-4216-8056-46D3F62D6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2C77C-9D74-48F5-8BEA-09BB18AB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AB01D-8896-4259-8D48-F4F63EBC6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66B78-BD48-485F-8776-E63DE6450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D807E2-DC27-4DC9-807C-31BE012B9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77816C-34D5-440F-98F4-E005F459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6FFC4D-EE92-4062-9D4C-333CB04B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ECEC2A-6310-48BB-A9FE-3953DF60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EF0E05-EFDB-43D7-8AE9-966F5B8F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917A9F-8DAF-4014-BF4C-F6B89E8A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A214C-C509-4E06-8F70-722C8199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E267-EEAD-4F1F-872C-89CA03D2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BEAA4A-8EBC-4B3D-9A92-60EB166B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B1C0C9-EF42-44D4-A7A7-91EDED09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254DBA-E1F7-4CE8-BB10-FA4AE5A6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2A848A-1879-4E3F-87C7-08CE28C21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14FF17-E641-4DA8-9ACF-4D8B7C5E0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548D4C-62E3-4CC8-A844-63B96696E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EAEEAA-D32F-445C-85F5-A55D7651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0782A7-4D01-49AC-8F76-E07E13E4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F64EBA-3735-4FD5-AD9D-36EF831B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EEB9B0-C795-4A95-B310-A3804BFB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7B0E-23C3-4292-B585-E02E20A1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590CFD-F71E-44EA-86FA-927B1F44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E66AC6-D825-40E4-AFE2-F868A8F0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11D7D7-D98B-48EB-A11F-529CC7DB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D2C059-D1CF-4EC5-8E6A-598B31E2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F09D9D-4441-42A2-A936-AC6B1583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5B812A-BA93-41A9-B54D-9854B2F50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383C09-3964-4A36-818D-139BB12DC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31C672-5EE9-4320-92C9-13BCCFFC7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27E191-A8CE-43F9-8833-B8EA3919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6A22CC-9EF3-4FBD-83BA-BD865C49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0D4F-90C0-4859-8450-136A2A0B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52939D-50CE-4152-97BB-718671A5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A5F34E-A077-485F-BED3-7CF499A5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7FEFE6-D44E-40BD-9794-9793DAAA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DE4031-DCD6-4636-987F-2F995C79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935579-E01E-4EEA-909F-3A33522E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CF2CBB-CA08-4DDC-957D-4FAF1D31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B22D4B-F6FE-448C-8B98-EB67C17E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D9818F-5CC5-4586-AB1A-3E5ED3474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445A15-B9CD-412E-9DAE-45051E840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6664F9-1C70-4EB9-921F-771DDFAF3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2D57-D1F3-48EA-93DD-4105A22A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343B27-FFEE-487C-A73F-FA36D2F6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317195-900C-4D28-BFC2-BA96C143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B667DE-9B81-4CCF-B687-F953178E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F0ED6A-1E5C-47C7-A3BA-09F8912F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26053F-A412-4F47-B8E5-F11CD90B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7AF42C-F9C7-4B27-8266-4E0C8218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E1CBF0-BEB9-4C23-8764-2460ED9C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58B51C-56A9-4A23-9A62-3E6690B1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9314EC-67AE-4886-A1B0-CA660ADA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253FCF-E451-41AC-AB8C-D1F5E4BCF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C1F5-523A-404C-AF69-BBA5646F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8B4C3B-875D-4801-905C-CF5B59AE8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AB65B9-F777-41B9-A20A-3E1051066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991CFC-F00E-436B-BC4F-4617BC47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67F991-4307-44CD-8DD8-ABF47AAA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158EA2-F211-4A45-89A0-388E9679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D9E45E-8A8B-48B4-9F15-780F3332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8913D2-4491-444B-8900-D834D7BB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B973A0-AD55-4E83-8CA8-0AB124E4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8D0572-DC51-448D-914D-26D19D09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A79B8F-157E-43DF-8A05-0BBDBE63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B6F9-DB3D-46AC-B657-A02C46CF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AAF1A2-1B22-42A2-84CE-120485F5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CC58E2-3606-4883-A451-FF3D5BB7E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7EB1A8-5EF8-40B5-88AC-96EB71E3C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47ACA1-100A-4D45-A34D-ED4DFEC2C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52E6E2-AD78-4A5A-8F77-FEBB5DBA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70F2D0-A227-42A8-8B38-B00EBC71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408431-0363-46C1-B92D-83834143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2369CC-B4C1-4D9F-A777-40B96549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CB66F2-F0E9-4856-998F-49EBE57C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71F3EA-DFE9-4588-948F-0EDA1D81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3331-D2EE-4528-B07A-7275874E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F94C-55FD-48F0-B2AC-B79BF4D5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5BD23A-A883-4FB4-8590-CCBABF07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FEBFE5-D6CB-476B-BF18-BCEA2BAC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553B39-A90C-4EF1-AD45-128A920C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FE58EF-ADCE-4C86-98E6-5EB39829D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4B1BB7-7691-4A4B-BEB6-23A980254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71B8CE-6107-4E49-904F-0927FFB17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3756D9-F647-46C5-81CD-8459E156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CD4C79-901F-4725-A2B8-E9C89DDF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CEB02E-13A7-4D4D-8B29-F316AC24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9F0B0E-C9D3-4F57-8684-97D6671F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2A58-5E21-4C11-B737-FD43B70A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CE9549-DB4D-4710-B555-B3BF5815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02176A-4C2F-41A5-8DB0-96960128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A89254-19C2-4311-8563-4F995996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E508E1-4DD2-4859-BA11-5E2FC4F2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B5D6DF-77E1-490E-BAA7-669C97BE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00BD97-A5D8-4137-87AF-3A7EBBFAB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9C04B6-E05E-4432-B314-521B0C303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23C264-7C1E-4BCF-ADC2-1E3390924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270937-0347-4E48-BCCB-DD13D55F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3DE9A4-FD60-4A88-A8DF-3836FE16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2359-9986-4783-8F56-093E023A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2C1E1A-4F8E-408E-96EB-944CBD5C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4627BF-5CE0-4177-8034-D166E525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650A0C-6C5D-4A5A-A802-FF90342C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65E602-1451-4721-B036-21A64893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406C77-2094-4D7C-8584-A1215D40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E7AEE4-9E60-4444-A0A8-10096D13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38620E-1597-4371-81BE-D3382673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B69B89-3925-4F19-B204-F6F6587EB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2A1A51-572A-438A-92CD-29A7AD052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841A78-5264-46F3-9AD1-60DC4F02F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8C6F-8C00-4EC0-B55F-C1CA08E83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953C46-6278-4323-B2AB-8B9B4E16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50A66A-2BAB-4F14-B4B9-F505A396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D7FEF5-0980-4C09-886D-F59359E1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AAD6CE-11AC-4075-B47C-148A99BF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0E42C8-2E40-4E8B-9355-4AB82918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8EA6F1-AEEB-4BB9-A3C8-650B4A8C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E9E6BC-CEB8-4453-9056-ECE56115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E73B3C-8074-4118-B919-A6DBA8E9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9D5D9F-5DF3-4993-A54B-D52D4BC0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9F0050-1F17-4764-9B4D-7004E675A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63E0-8802-4CEF-964E-AF2FB5899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86B554-3EA1-4C56-9A2B-B773194C0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810CCA-1643-4F98-8C85-97B92FBC9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4DBA39-FE5C-4B0E-A546-E89505FA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498464-2A72-4588-BCAD-DB4AE5A9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258BCB-8329-4852-95D7-AF857EF5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43D226-36FC-401A-87AF-209DA59C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30F492-FE0D-40EF-A61C-A2507EF4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00EFFE-A7F7-4E0B-ADE6-F3704CE1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CD567F-5E7E-4D45-A381-FF7F95EA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A60DD5-AEB4-40FE-B064-7C6F6012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D2967-F891-42B8-9238-6EEA4BF5D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84948A-D7A7-43AA-ACF4-493F7AE6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B94EAF-48DD-48ED-84C4-88BCA2746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C88364-934F-4613-B869-3423ABB01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96E21-E97D-4AFE-BEF5-F4C4D256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F364A-24A8-44AB-A630-53A201C9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1724D-598B-4055-8A48-2B9D7B55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E080C-6DEA-4BB5-A324-4CB48E42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EB3B-B5C9-4A43-B452-924844EB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B99F6-CE96-4A18-84D0-985A2785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B7AC9-2A90-4386-8EF8-ADA77F54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CDCF0-9F23-41EC-8882-5B28E0F9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4177E-8D3B-4E3E-BEAB-378ECFB7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A64EB-E536-4ADB-B299-3E5785D3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3238D-6873-4C33-A4A2-C16CAB91F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D8DEE-60D9-4327-AD15-C8C8B4F7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18E25-795F-49BD-900F-827E9377D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8D784-0EDF-47C3-BC1E-E83FBE97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79AC4-B50F-4927-8FAB-A69F5E99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06A7-D970-425C-B4AD-DAC4B8DB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BDB3E-91FF-4481-8228-FF77F035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B42E9-08F9-428C-BBC3-0D829F51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91C96-34ED-43BF-8DEA-8C7089A1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2C8DA-79D6-456A-A422-81510F73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073BA-AE8E-4CC3-B87E-703AC438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F2B11-25BF-4688-BB0E-15DE8F67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A2541-69A0-4FD4-85D6-501C33A0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56493-F19D-40A4-AC56-5A78A8800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7E8BA-DB99-4C6E-838D-3E802929A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C4FCB-2DF7-450C-94D9-C46C6FD67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7B84-292C-4B54-A569-52EA5D55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16B7A-5094-4019-8C38-16209170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A5B35-8154-4868-AE1C-6D2FD3F2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D3F48-9F9D-4FCE-BC15-6CDEEF68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AC499-6E64-458F-8FB3-98166B13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1F13F-6B19-476F-9E17-FC6A5175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4C7CA-7992-4308-BFCC-01F355BC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26315-B083-465C-8D0F-D4CA4591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4035A-CDF8-454F-8A8E-F4B7C8E3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5DA1A-B7DE-4B83-B7CA-4FCB62C2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C3083-2D2C-44E0-A927-2BF844DEA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CF59-8DB2-4E4F-ACB7-D85B0665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779E4-706A-4564-A829-BD5A0CB1F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77904-D472-4B47-BC4D-EBCFF3D9B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D458F-E3A1-4EC7-B741-B4BEFB02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B74EB-4678-4920-B3D6-835D17D3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B9431-AC77-4D41-BDCF-3EF39FA6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D6801-6FA5-4BE9-AE63-2547A7C2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35A11-1C34-4CAA-A944-EE17FF1D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39F5A-5EC0-4F74-85D2-E5F5D081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2AD70-26FD-4DE8-844D-A4F515E1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466B8-2B02-4716-8A90-6BE745CA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BE30-3BFE-422A-82BE-BDC42511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8218D-C510-4451-9925-02920B02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74F45-7B60-43AD-804D-09855E5B4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667BC-A88B-4DAF-AFEC-78F07CEFC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D29C7-FC45-4A45-AD4C-90430FC2F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1F1D6-8D6B-4313-81E4-DBBD4513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8A2D4-7131-4461-8610-C53B056D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9068C-F5E6-4922-98DE-53DEA217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B0C0D-4A82-4EB3-8F6A-C7FD0BD1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AD4C1-FE6F-45A4-B191-288AE69C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39849-3D4B-43BC-AA2C-5C05DA20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7E7E-5668-43DA-A201-CB55B093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EB600-0F7D-4F5C-B373-99267AC1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F1F63-5BFF-46C1-B341-C7814016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D1B75-023D-4201-8EB3-6637E7D5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FBE03-A52F-45FB-8144-D878356FD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53EA4-4B2B-45A0-B068-4A89E2365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E589F-45BC-4EC9-BBED-561DA70BB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FB28B-354C-427A-ADFE-8D028B9A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A5F68-A9EE-430F-B853-129469C7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0B58E-E7A0-44E3-905E-10C49D39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126AF-A1B6-463E-B014-9747E138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FB65-2FB3-4EFE-BDBD-70530896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977F3-F1A5-4267-B568-2333B995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2EC3D-B3DC-489D-9720-61818DB9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84B77-5F29-4FA5-AE34-2EF0CA5D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BD239-0FFE-4E83-8573-1C53E1C6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6EF66-511C-455E-99AE-254CB91C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E2A74-9CD5-495F-AACC-81437BE85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36AE3-CF5B-4ACA-B405-E14DB7BB7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6D1B3-7ADD-4E73-BDE5-DFCD562AB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7C5BEF-B702-437B-942A-A0B75B40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37538-B4AD-4DD3-A0D8-B44D84D1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F56C-0E70-4EC6-8F52-BD52F1FE53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D6BD-B5E5-46DC-84BB-B855EFF2FF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E39B-4B93-465D-880C-20A56AE0B6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0C9C-243F-480D-A898-549114A387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999E-79A1-42D4-9AF6-D725EB9AB2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DDAA-7FC3-42E1-B96E-3B0B09DB01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DC98-29BA-40D8-9579-A40376A12C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0112-40F0-4407-A120-7D3BCA39B1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23E3-364F-4590-AE8F-B8120893EA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5400-CCAE-4C85-9267-27B68511F8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3857-68ED-4340-B7A5-E6B53DF44D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F096-E6E6-42D4-88E2-6BB1238AB9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8C28-33A9-40FB-A832-C38697A54D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261B-AFD0-4659-8E7C-1B4EF473E2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FCEC-557E-40DC-82A8-F54A75B33A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6FF0-059B-4FBB-8330-3C8AAFFDAD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80AB-58B1-4117-8E0C-0A24657BFA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E405-8549-4EA8-B427-027DB6D87E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F145-0E2A-4B07-981E-36E9A2ACD1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D920-35FE-4031-9713-1546B1130C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DB9C-BC4E-4A69-8B9E-A4E08F7B99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2E32-96B3-4DE6-ADC4-CB16BE9ED4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DB7C-94FC-4D87-87DA-C4C78E6220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B994-86D0-4AE6-A155-4CE37BFD09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C44E-77EB-4FAE-B83D-3F146A9952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32F5-5C6F-46A6-BA67-D4F2E7FCCF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4B72-226F-4EB6-81F2-130B9EC167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5367-5DCD-43E1-A145-DAD59ED63B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2344-A472-4AE3-8F43-9A7DE7C6E9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F67D-B7A2-49A4-9B0E-82B9FD69F8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E8DB-99CB-4EC0-9150-8FE2CED880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A943-D089-4095-8348-0DAC0B8DD9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EA12-AD0B-45BA-8175-F5DD153DB9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D762-EB22-4DF1-9490-288FD88E4A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5E45-DE08-42F1-B986-B466FF84F5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8BD9-2C8B-478E-BD3A-7209D01146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FFC1-C128-4B50-9664-977A90F303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1FDA-37A5-4E62-970C-790B12407A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8EF7-90DA-4DE0-AEDF-1E39D95F5E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6381-34B0-45B9-B66B-58470F0D65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495520" y="3186000"/>
            <a:ext cx="415296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666720" y="1386000"/>
            <a:ext cx="7810560" cy="40860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979640" y="2646360"/>
            <a:ext cx="936720" cy="257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4643280" y="2646360"/>
            <a:ext cx="936720" cy="2570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7380360" y="2646360"/>
            <a:ext cx="936720" cy="2570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1908000" y="3059280"/>
            <a:ext cx="936720" cy="2570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4643280" y="3059280"/>
            <a:ext cx="936720" cy="2570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7380360" y="3068640"/>
            <a:ext cx="936720" cy="2570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5364000" y="3943440"/>
            <a:ext cx="936720" cy="2570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5148360" y="4356000"/>
            <a:ext cx="936360" cy="2574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5580000" y="4734000"/>
            <a:ext cx="936720" cy="2570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5902200" y="5148360"/>
            <a:ext cx="93672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9410" descr=""/>
          <p:cNvPicPr/>
          <p:nvPr/>
        </p:nvPicPr>
        <p:blipFill>
          <a:blip r:embed="rId1"/>
          <a:stretch/>
        </p:blipFill>
        <p:spPr>
          <a:xfrm>
            <a:off x="1414440" y="1862280"/>
            <a:ext cx="6315120" cy="31334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2124000" y="4024440"/>
            <a:ext cx="935280" cy="2570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3276720" y="4014720"/>
            <a:ext cx="934920" cy="2574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4"/>
          <a:stretch/>
        </p:blipFill>
        <p:spPr>
          <a:xfrm>
            <a:off x="4562640" y="4014720"/>
            <a:ext cx="93492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8373" descr=""/>
          <p:cNvPicPr/>
          <p:nvPr/>
        </p:nvPicPr>
        <p:blipFill>
          <a:blip r:embed="rId1"/>
          <a:stretch/>
        </p:blipFill>
        <p:spPr>
          <a:xfrm>
            <a:off x="1052640" y="1085760"/>
            <a:ext cx="7038720" cy="46864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1619280" y="3798720"/>
            <a:ext cx="5184720" cy="2574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3"/>
          <a:stretch/>
        </p:blipFill>
        <p:spPr>
          <a:xfrm>
            <a:off x="3132000" y="4994280"/>
            <a:ext cx="576360" cy="2570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4"/>
          <a:stretch/>
        </p:blipFill>
        <p:spPr>
          <a:xfrm>
            <a:off x="6443640" y="5013360"/>
            <a:ext cx="576360" cy="2570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5"/>
          <a:stretch/>
        </p:blipFill>
        <p:spPr>
          <a:xfrm>
            <a:off x="3059280" y="5402160"/>
            <a:ext cx="576000" cy="2574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6"/>
          <a:stretch/>
        </p:blipFill>
        <p:spPr>
          <a:xfrm>
            <a:off x="6443640" y="5402160"/>
            <a:ext cx="57636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2:10:18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